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gif" ContentType="image/gif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DBCD-47C9-40A6-9AD2-AFE7E2B55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4D3F-DB5D-4CFC-9F49-3883A380B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C2AC-8EF4-40E0-BB48-74DD78DB6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F81F-0FC6-4007-93DB-5F9D8B1A0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5703-B0BA-4BE8-92DA-5290CE8EA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B8C2-2881-4F8A-B6CB-433CA00FC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FFFD-D344-4DD6-8155-EE1575ED4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3371-8EE7-45F2-B89C-267E46C92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36D0-9661-47A6-BC45-8CF227DD4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9B52-94FA-4168-AA6C-ECECA8F41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2427-F1FA-4898-A333-1863BA006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2299-1D16-4C53-AD1E-CEC15DBDF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4F045-728A-4D75-B104-43F267E85CE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940040" y="733320"/>
            <a:ext cx="511020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2560" y="1557360"/>
            <a:ext cx="777708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484360" y="1522440"/>
            <a:ext cx="46800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79640" y="1090440"/>
            <a:ext cx="561672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116000" y="1057320"/>
            <a:ext cx="74883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187280" y="692280"/>
            <a:ext cx="7272360" cy="59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627280" y="836640"/>
            <a:ext cx="4608720" cy="54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68360" y="1235160"/>
            <a:ext cx="518328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87280" y="758880"/>
            <a:ext cx="7535880" cy="54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124000" y="765000"/>
            <a:ext cx="5040360" cy="565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7T12:49:35Z</dcterms:created>
  <dc:creator>tahir</dc:creator>
  <dc:description/>
  <dc:language>en-US</dc:language>
  <cp:lastModifiedBy>tahir</cp:lastModifiedBy>
  <dcterms:modified xsi:type="dcterms:W3CDTF">2006-02-07T12:49:49Z</dcterms:modified>
  <cp:revision>1</cp:revision>
  <dc:subject/>
  <dc:title>الشريحة 1</dc:title>
</cp:coreProperties>
</file>